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A68-C248-4F73-A402-43C0B453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142-1811-4616-B4C6-80825F0E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FC2-BE56-4030-8E09-F6A02B7E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72B-5718-4519-975F-15ACF3D3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035-352B-4525-8149-9E0E1159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B1B-A8CC-418F-BB00-4C208EE3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1BC-03EA-437B-857D-EE6029A0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66C-60C7-4511-B815-966DB017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12D-299E-4737-9717-2F75E00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597-7D0C-4884-B100-E0C21FA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62A-6616-4676-A7E7-1ED1D73C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3FE-862A-45E6-9AA4-5FEB2A04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5993-B046-4052-B856-8C77FF04C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49E-B734-47BB-A6A4-4221A71DE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F61-59CA-444A-B3E7-CC2847E9C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83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caminhar, mensalmente, ao NTE relatórios de atividades pedag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dos trabalhos desenvolvido nas unidades escola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720" y="170028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III –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manter atualizados os registros das atividades executadas nas STEs e arquivados em mídias externas de armazena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avés do diário da S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criar pastas no servidor: aluno/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deixar na STE para os professores regentes e alunos instruções de    como  compartilhar/salvar as ativ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357336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X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elar pela utilização e preservação da STE, procedendo à confer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limpeza periódica dos equipamen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verá ser responsável pela conservação e     limpeza dos equipam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4640"/>
            <a:ext cx="835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ar para que nenhum equipamento seja retirado da Sal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ologia sem autorização do NTE/COTEC/SUPED/S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F9B-583D-4E1C-A8C7-07A6F694A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71640" y="907920"/>
            <a:ext cx="302436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RO DID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916280"/>
            <a:ext cx="84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e a CI n. 014/2011  de 7 de novembro de 2011 referente ao PNLD na escola, cabe  Coordenador Pedagóg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i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r o recebimen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ição dos livro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mpanhar o remanejamento dos livros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 decorrer d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58136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anha do Livro Did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mover ações de incentivo à utilização consciente e conservação do livro didá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isão para iníc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rço/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6E7-7EB4-4D2E-9AA2-69CF5A6D6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89A-2BC1-405A-87F7-FC3C9F05A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AFD-D45F-4388-807F-6D477C2C4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781360"/>
            <a:ext cx="7199280" cy="792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e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ORDENADORIA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3573360"/>
            <a:ext cx="7200720" cy="89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Aparecida Campos Feito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ordenadora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00000" y="907920"/>
            <a:ext cx="7200720" cy="1684080"/>
            <a:chOff x="900000" y="907920"/>
            <a:chExt cx="7200720" cy="1684080"/>
          </a:xfrm>
        </p:grpSpPr>
        <p:sp>
          <p:nvSpPr>
            <p:cNvPr id="44" name=""/>
            <p:cNvSpPr/>
            <p:nvPr/>
          </p:nvSpPr>
          <p:spPr>
            <a:xfrm>
              <a:off x="900000" y="907920"/>
              <a:ext cx="7199280" cy="7920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PERINTENDÊNCIA DE POLÍTICAS DE EDUC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0000" y="1699920"/>
              <a:ext cx="7200720" cy="892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500" spc="-1" strike="noStrike">
                  <a:solidFill>
                    <a:srgbClr val="000000"/>
                  </a:solidFill>
                  <a:latin typeface="Tahoma"/>
                </a:rPr>
                <a:t>Roberval Angelo Furtad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uperintendente</a:t>
              </a:r>
              <a:r>
                <a:rPr b="1" lang="pt-BR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06560" y="4570560"/>
            <a:ext cx="7199280" cy="792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e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ÚCLEO DE TECNOLOGIA EDUC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VA ANDRA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6560" y="5362560"/>
            <a:ext cx="7200720" cy="89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Gabriel Galiego Ne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retor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BA3-F238-483C-9E1D-B63CC2C9D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84280"/>
            <a:ext cx="8209080" cy="672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ROFESSOR GERENCIADOR DE TECNOLOGIAS EDUCA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 RECURSOS MIDIÁT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4922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 tecnologias educacionais deverá ter o horário/dia dos planejamentos dos professores regentes para fomentar junto  a coordenação pedagógica a integração dos recursos tecnológicos existentes na escola no seu planej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 tecnologias educacionais deverá desenvolver seus trabalhos, integrado aos coordenadores pedagógicos/áreas da unidade esc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ário da STE – será de acordo com a realidade da escola: fixo/agend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fessor gerenciador deverá fomentar e acompanhar a utilização da STE de maneira que a mesma não fique ociosa. Na ausência do professor gerenciador  na escola, o coordenador pedagógico e o diretor disponibilizarão a STE e os demais recursos midiáticos assumindo a responsabilidade pel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836640"/>
            <a:ext cx="5689440" cy="3988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LA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D25-F774-499B-A7A6-0F64DDE10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1970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acterísticas necessárias ao professor gerenciador de tecnologias educacionais e recursos midiát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 dominio das tecnologias e de sua utilização nas diversas áreas e disciplinas do currícu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um bom relacionamento interpesso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 dinâmico, criativo e proa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50133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TRIBUIÇÕES DO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A60-A3C9-4434-91AC-788900456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840" y="1158840"/>
            <a:ext cx="8642160" cy="1191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/SED n. 2.491,de 8 de dezembro de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Arial"/>
              </a:rPr>
              <a:t>Dispõe sobre o Projeto de Implementação das Salas de Tecnologias Educacionais - STEs e a utilização das diversas tecnologias midiáticas nas unidades escolares da Rede Estadual de Ensino e dá outras providên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655720"/>
            <a:ext cx="8569080" cy="9169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t. 14. Caberá ao professor responsável pelo gerenciamento das tecnologias educacionais e recursos midiáticos nas unidades escola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860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xiliar os professores regentes no planejamento e desenvolvimento das atividades pedagógicas no uso das tecnologias educac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m base no guia nortead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través de vídeos da TV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rtal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ominio publ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educativ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E1D-7A0D-4945-8429-96BAA1CE9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83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ar formação continuada aos professores regentes,coordenadores pedagógicos, coordenadores de área e diretores da escola no pedagógico uso das tecnologias educacionais e recursos midiá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junto com o NTE propiciar oficinas pedagógicas aos professores regente /coordenação pedagógica/direção que contemple a utilização das tecnologias educacionais e recursos midi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85264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sponsabilizar-se pelo gerenciamento das tecnologias educacionais e recursos midiáticos, juntamente com a direção e coordenação pedagógica da unidade escolar, em conformidade com o Projeto Político-Pedagógico, Referencial Curricular da Rede Estadual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verá conhecer o Projeto Político-Pedagógico da unidade escol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hecer e ter sempre em mãos o Referencial Curricular da Rede Estadual de Ens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34D-2D59-4671-900B-2DC221E910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98100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resentar aos professores regentes sugestões do uso das tecnologias e mídias para a melhoria do processo ensino e aprendizag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ar um mural restrito as tecnologias educac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nibilizar textos, informativos referentes as tecnolog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ar acervos de vídeo/material impres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 e desenvolver projetos interdisciplinares com a utilização das tecnologias disponíveis na es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14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ipar efetivamente dos cursos de formação continuada oferecidos pela Secretaria de Estado de Edu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 professor gerenciador de tecnologia educacionais deverá participar    constantemente de formações continuadas sem desistê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50864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prir a carga horária destinada ao planejamento pedagógico; será de acordo com o numero de turmas, ou seja, será distribuído igualmente entre as tu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rá de acordo com o numero de turmas, ou seja, será distribuído igualmente entre as tur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"/>
          <p:cNvSpPr/>
          <p:nvPr/>
        </p:nvSpPr>
        <p:spPr>
          <a:xfrm>
            <a:off x="179280" y="24300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1de"/>
                </a:solidFill>
                <a:latin typeface="Calibri"/>
              </a:rPr>
              <a:t>Nome do Setor : Coordenadoria de Tecnologia Educ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665-0031-4CF5-A548-12E0D32AAD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3:15:03Z</dcterms:created>
  <dc:creator>fbaptista</dc:creator>
  <dc:description/>
  <dc:language>en-US</dc:language>
  <cp:lastModifiedBy>NTE</cp:lastModifiedBy>
  <dcterms:modified xsi:type="dcterms:W3CDTF">2012-03-06T13:06:54Z</dcterms:modified>
  <cp:revision>63</cp:revision>
  <dc:subject/>
  <dc:title>Slide 1</dc:title>
</cp:coreProperties>
</file>